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D6EC-C318-4A8F-B2B9-13B8D77A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FAA-E306-4D2B-97AD-88C3BE52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080-B77B-4EEF-A182-9E87F2A9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07FD-0925-4BE4-A44E-DDA5385B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40E7-45F1-456C-9F3E-5011CF40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CDFA-6D82-4549-B7AB-31664405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8234-6485-4A42-B9FC-5D069029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51C7-0C6E-4CDD-8133-4EFDF090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9180-8A78-47B4-B527-9FD42027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483E-8EE9-43F7-BC7B-DD1EB394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E6C4-ACE8-4740-8E01-0DD6DE9F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70F0-5BD1-499E-9259-1CE4ED42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07B4-7FDE-437F-B0A2-BA542675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845C-9505-4084-91DB-A503CEFD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719B-66A5-4B00-B5A5-BD84B4B6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ACBD-6B12-4FFF-9CE0-9D1F594B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1C04-28F8-4FA7-BEF5-6574B6A1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117-DDFE-4167-893C-A78E2241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A68B-F9E4-4344-972C-929C541F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56D4-F580-4037-BDB3-6952A6E1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4E6-713F-4DEA-A9AE-4E9C8EED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097-AEA0-47A3-B9E8-F3F5F73E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6633-31C6-4951-9721-503678C8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BFB-1F10-423E-BCBB-56EA9461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3001-7672-4D7D-87AC-7BEEA9B1257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700E-ACB3-44C2-AF5D-C2B0EB76726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4282-FF41-4855-BD87-F5628075CEA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and </a:t>
            </a: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Maintain 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Reference List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Do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not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call it a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Bibliograph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Academic honesty demands i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Not to document is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plagiarism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Gives access to your sources.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Reader verify and follow-up easi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2339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Use quality sources; quote wisely.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Adds value and author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371600"/>
            <a:ext cx="8534160" cy="4800600"/>
          </a:xfrm>
          <a:prstGeom prst="roundRect">
            <a:avLst>
              <a:gd name="adj" fmla="val 16667"/>
            </a:avLst>
          </a:prstGeom>
          <a:noFill/>
          <a:ln cap="sq"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DC20-97C2-403E-8634-4FE90BD3364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&amp;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br>
              <a:rPr sz="4000"/>
            </a:b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F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ORMATTING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Use 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Style Guide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 Be consisten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5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MLA and APA are two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authoritie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Alphabetize and double-space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Indent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second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line. Do not numb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Integrate all sources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Make </a:t>
            </a:r>
            <a:r>
              <a:rPr b="1" lang="en-US" sz="4000" spc="-1" strike="noStrike">
                <a:solidFill>
                  <a:srgbClr val="ffcc00"/>
                </a:solidFill>
                <a:latin typeface="Arial Rounded MT Bold"/>
              </a:rPr>
              <a:t>one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alphabetized li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676520"/>
            <a:ext cx="8534160" cy="4495680"/>
          </a:xfrm>
          <a:prstGeom prst="roundRect">
            <a:avLst>
              <a:gd name="adj" fmla="val 16667"/>
            </a:avLst>
          </a:prstGeom>
          <a:noFill/>
          <a:ln cap="sq"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C21B-1A87-4E2B-B279-EA174766F0D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&amp;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br>
              <a:rPr sz="4000"/>
            </a:b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I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NTERNET &amp; 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O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THER 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E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-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S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OURC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Basic information the sa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Author, title, place, d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Unique features includ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Uniform Resource Locator (URL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Date accesse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Some info may not be availabl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Cite what you can fi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676520"/>
            <a:ext cx="8534160" cy="4419360"/>
          </a:xfrm>
          <a:prstGeom prst="roundRect">
            <a:avLst>
              <a:gd name="adj" fmla="val 16667"/>
            </a:avLst>
          </a:prstGeom>
          <a:noFill/>
          <a:ln cap="sq"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BFE1-D684-4FD8-9CB3-D16166C640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Bailey, Sue. “Critics: Stats on Shelters Are Misleading.” 5 Nov. 2002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anoe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NEWS: News Ticker National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7 Nov. 2002 &lt;http://www. Cnews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anoe.ca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Beckwith, J.  "Glenn Gould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he New Grove Dictionary of Music and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Musician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Ed. Stanley  Sadie. Vol. 7. London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acMillan, 1989. 579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anadian Broadcasting Corporation.  "Down on the Farm: Crisis in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Agriculture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CBC TVNews-In-Review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Videocassette. CBC, Feb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1999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A547-CACC-42DF-82FE-BD665E406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onservationists Push to Save Polar Bears.” 5 Nov. 2002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BC News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Onlin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6 Nov. 2002 &lt;http://www.cbc.ca/stories/ 2002/11/05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polar_bears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rook, Connie Brummel. "Writing historical fiction."  E-mail to the author.  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21 June 2002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Davison, Peter. "Ecotourism Can Help Preserve The Rainforest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Global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Warming: Opposing Viewpoint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 Ed. David Bender.  San Dieg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Greenhaven, 1999.  171-7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7632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F13C-A3E9-4206-982D-F4A149AAAD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Doob, Anthony.  "Youth Justice Publications into Research in Canada: An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Assessment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anadian Journal of Criminology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Apr. 1999: 217+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EBSCOhost 3.1, Peel District School Board, Mississauga, ON. 20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July 1999 &lt;http://epnet.com/ ehost/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Frizzell, Alan, and Jon H. Pammett, ed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Shades of Green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Environmental Attitudes in Canada and Around the World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Richmond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arleton UP, 1997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Govier, Katherine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A Medley of Canadian poets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”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im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5 Jul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1999,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anadian ed.: 50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219E-CF9D-44FE-9D43-9D327E233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Hardware:PlayStation 2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PlayStatio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7 Nov. 2002. &lt;http://us.playstation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om/hardware/PS2/SCPH-30001.asp&gt;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Haworth-Attard, Barbara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Irish Chain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Toronto: Harper Collins,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2002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Hughes, Monica. Home page. 7 Nov. 2002 http://www.ecn.ab.ca/ ughes/&gt;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Jane Austen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Great Writers of the English Languag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 Vol. 8. Toront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arshall Cavendish, 1989.  5-2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Julie Payette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Canadian Geographic Explorer: An Interactive Journe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Around Canada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CD-ROM. IQ Media, 1997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cClelland, Susan.  "Users Beware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‘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Quack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’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Sites Lurk Among Man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Good Internet Health Links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Maclean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’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21 June 1999:  5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5B95-DEF8-4173-82FE-35B3B9B9BF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524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3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Nye, Bill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 "The Suns: The Planet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Bill Nye: The Science Guy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Videocassette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Magic Lantern. 2000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바탕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3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Shelley, Mary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Frankenstei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1818. Toronto: Penguin, 1994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Skreslet, Laurie and Elizabeth McLeod.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To the Top of Everest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Toront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Kids Can, 2001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Sly, P.G. "Great Lake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he 1998 Canadian &amp; World Encyclopedia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CD-ROM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Toronto: McLelland &amp; Stewart. 199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Stewart, Garrett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Lewis, C.S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”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World Book Online Americas Editio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2002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World Book. 7 Nov. 2002 &lt;http://www.worldbookonline.com/wbol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wbAuth/sp./wbarticle.jsp&gt;.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  <a:ea typeface="바탕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7632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21:07:12Z</dcterms:created>
  <dc:creator>Sya VanGeest</dc:creator>
  <dc:description/>
  <dc:language>en-US</dc:language>
  <cp:lastModifiedBy>KIGCIRC</cp:lastModifiedBy>
  <dcterms:modified xsi:type="dcterms:W3CDTF">2003-11-13T12:43:39Z</dcterms:modified>
  <cp:revision>42</cp:revision>
  <dc:subject/>
  <dc:title>Why a Research Model?</dc:title>
</cp:coreProperties>
</file>