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8924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4A46-44FD-44FC-9094-D3C5484D2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90C6-AB40-4654-B9ED-2FB03D834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0957-04BA-48C5-BD58-682D8A2E3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ECF2-B3EB-4C18-BC17-2EF45C743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6C160-D3C3-4034-A26B-C12B6CC4D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A66F2-60F4-4CB1-8211-CB95C189B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63710-C07E-4508-9C66-34BE073EE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D24C1-D065-4DA6-8336-D6218EF16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EB1A1-06BE-432F-8567-152156D52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73371-DD31-4938-B955-E3701FA25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1603F-8C5E-431F-B1AB-70506AD24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CAF7-52CC-41A7-87FF-D2FE76ADF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81E9E-F014-4525-9458-5C0C2266F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18D26-ACD4-4989-95BB-722C0B12D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92469-B9AC-442D-A90B-8328AD831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2DC23-D3E7-41AE-AAAC-67D154C28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CF4DB-DF6B-4EB1-99DE-489556C7A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9E99-4747-4650-9A9D-047611DCD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385C-6B4E-4FC5-AD61-B2FF0E7A3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462F-AE94-4ED8-A64F-ABDC8E951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A670-CF97-4F45-BF49-76F69FEC8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F9DD-BBE7-4A89-A807-F0A96F5F1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8E92-6D72-463E-A404-6E0663057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E6E1-0F48-401C-BA7D-6FB2D6FA2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F474E-7B7E-43FD-8CE0-B8452AC23F11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B205F-E41A-4F5F-AB33-5F25D8605593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293A6-F07C-4B01-AECE-53E6BEE9B49E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D</a:t>
            </a:r>
            <a:r>
              <a:rPr b="1" i="1" lang="en-US" sz="36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OCUMENTING and </a:t>
            </a:r>
            <a:r>
              <a:rPr b="1" i="1" lang="en-US" sz="44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A</a:t>
            </a:r>
            <a:r>
              <a:rPr b="1" i="1" lang="en-US" sz="36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CKNOWLEDGING </a:t>
            </a:r>
            <a:r>
              <a:rPr b="1" i="1" lang="en-US" sz="44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S</a:t>
            </a:r>
            <a:r>
              <a:rPr b="1" i="1" lang="en-US" sz="36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OURCES</a:t>
            </a: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5000"/>
              </a:lnSpc>
              <a:spcBef>
                <a:spcPts val="901"/>
              </a:spcBef>
              <a:buSzPct val="12339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Rounded MT Bold"/>
              </a:rPr>
              <a:t>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Maintain a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Reference List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.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65000"/>
              </a:lnSpc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Arial"/>
              </a:rPr>
              <a:t>Do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not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Arial"/>
              </a:rPr>
              <a:t> call it a </a:t>
            </a:r>
            <a:r>
              <a:rPr b="1" i="1" lang="en-US" sz="3200" spc="-1" strike="noStrike">
                <a:solidFill>
                  <a:srgbClr val="ffcc00"/>
                </a:solidFill>
                <a:latin typeface="Arial"/>
                <a:ea typeface="Arial"/>
              </a:rPr>
              <a:t>Bibliograph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901"/>
              </a:spcBef>
              <a:buSzPct val="11833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Rounded MT Bold"/>
              </a:rPr>
              <a:t>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Academic honesty demands it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75000"/>
              </a:lnSpc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Times New Roman"/>
              </a:rPr>
              <a:t>Not to document is </a:t>
            </a:r>
            <a:r>
              <a:rPr b="1" i="1" lang="en-US" sz="3200" spc="-1" strike="noStrike">
                <a:solidFill>
                  <a:srgbClr val="ffcc00"/>
                </a:solidFill>
                <a:latin typeface="Arial"/>
                <a:ea typeface="Times New Roman"/>
              </a:rPr>
              <a:t>plagiarism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901"/>
              </a:spcBef>
              <a:buSzPct val="12339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Gives access to your sources.</a:t>
            </a:r>
            <a:r>
              <a:rPr b="1" lang="en-US" sz="3600" spc="-1" strike="noStrike">
                <a:solidFill>
                  <a:srgbClr val="ffcc00"/>
                </a:solidFill>
                <a:latin typeface="Arial Rounded MT Bold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Rounded MT Bold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 Rounded MT Bold"/>
              </a:rPr>
              <a:t>Reader verify and follow-up easil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901"/>
              </a:spcBef>
              <a:buSzPct val="12339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Use quality sources; quote wisely.</a:t>
            </a:r>
            <a:r>
              <a:rPr b="1" lang="en-US" sz="3600" spc="-1" strike="noStrike">
                <a:solidFill>
                  <a:srgbClr val="ffcc00"/>
                </a:solidFill>
                <a:latin typeface="Arial Rounded MT Bold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Rounded MT Bold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 Rounded MT Bold"/>
              </a:rPr>
              <a:t>Adds value and authorit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4920" y="1371600"/>
            <a:ext cx="8534160" cy="4800600"/>
          </a:xfrm>
          <a:prstGeom prst="roundRect">
            <a:avLst>
              <a:gd name="adj" fmla="val 16667"/>
            </a:avLst>
          </a:prstGeom>
          <a:noFill/>
          <a:ln cap="sq"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DF0E2-987A-4262-B006-358BD498262E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D</a:t>
            </a:r>
            <a:r>
              <a:rPr b="1" i="1" lang="en-US" sz="28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OCUMENTING &amp; </a:t>
            </a:r>
            <a:r>
              <a:rPr b="1" i="1" lang="en-US" sz="36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A</a:t>
            </a:r>
            <a:r>
              <a:rPr b="1" i="1" lang="en-US" sz="28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CKNOWLEDGING </a:t>
            </a:r>
            <a:r>
              <a:rPr b="1" i="1" lang="en-US" sz="36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S</a:t>
            </a:r>
            <a:r>
              <a:rPr b="1" i="1" lang="en-US" sz="28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OURCES</a:t>
            </a:r>
            <a:br>
              <a:rPr sz="4000"/>
            </a:br>
            <a:r>
              <a:rPr b="1" i="1" lang="en-US" sz="4400" spc="-1" strike="noStrike" u="sng">
                <a:solidFill>
                  <a:srgbClr val="ffcc00"/>
                </a:solidFill>
                <a:uFillTx/>
                <a:latin typeface="Times New Roman"/>
              </a:rPr>
              <a:t>F</a:t>
            </a:r>
            <a:r>
              <a:rPr b="1" i="1" lang="en-US" sz="3600" spc="-1" strike="noStrike" u="sng">
                <a:solidFill>
                  <a:srgbClr val="ffcc00"/>
                </a:solidFill>
                <a:uFillTx/>
                <a:latin typeface="Times New Roman"/>
              </a:rPr>
              <a:t>ORMATTING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458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5000"/>
              </a:lnSpc>
              <a:spcBef>
                <a:spcPts val="901"/>
              </a:spcBef>
              <a:buSzPct val="12339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Rounded MT Bold"/>
              </a:rPr>
              <a:t>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Use a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Style Guide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. Be consistent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55000"/>
              </a:lnSpc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Arial"/>
              </a:rPr>
              <a:t>MLA and APA are two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authorities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45000"/>
              </a:lnSpc>
              <a:spcBef>
                <a:spcPts val="901"/>
              </a:spcBef>
              <a:buSzPct val="11833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Rounded MT Bold"/>
              </a:rPr>
              <a:t>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Times New Roman"/>
              </a:rPr>
              <a:t>Alphabetize and double-space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Times New Roman"/>
              </a:rPr>
              <a:t>Indent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Times New Roman"/>
              </a:rPr>
              <a:t>second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Times New Roman"/>
              </a:rPr>
              <a:t> line. Do not numb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45000"/>
              </a:lnSpc>
              <a:spcBef>
                <a:spcPts val="901"/>
              </a:spcBef>
              <a:buSzPct val="12339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Times New Roman"/>
              </a:rPr>
              <a:t>Integrate all sources.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65000"/>
              </a:lnSpc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Rounded MT Bold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 Rounded MT Bold"/>
              </a:rPr>
              <a:t>Make </a:t>
            </a:r>
            <a:r>
              <a:rPr b="1" lang="en-US" sz="4000" spc="-1" strike="noStrike">
                <a:solidFill>
                  <a:srgbClr val="ffcc00"/>
                </a:solidFill>
                <a:latin typeface="Arial Rounded MT Bold"/>
              </a:rPr>
              <a:t>one</a:t>
            </a:r>
            <a:r>
              <a:rPr b="1" lang="en-US" sz="3600" spc="-1" strike="noStrike">
                <a:solidFill>
                  <a:srgbClr val="ffcc00"/>
                </a:solidFill>
                <a:latin typeface="Arial Rounded MT Bold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 Rounded MT Bold"/>
              </a:rPr>
              <a:t>alphabetized lis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1676520"/>
            <a:ext cx="8534160" cy="4495680"/>
          </a:xfrm>
          <a:prstGeom prst="roundRect">
            <a:avLst>
              <a:gd name="adj" fmla="val 16667"/>
            </a:avLst>
          </a:prstGeom>
          <a:noFill/>
          <a:ln cap="sq"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CA632-D721-4EB2-8169-1CF4902C6446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D</a:t>
            </a:r>
            <a:r>
              <a:rPr b="1" i="1" lang="en-US" sz="28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OCUMENTING &amp; </a:t>
            </a:r>
            <a:r>
              <a:rPr b="1" i="1" lang="en-US" sz="36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A</a:t>
            </a:r>
            <a:r>
              <a:rPr b="1" i="1" lang="en-US" sz="28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CKNOWLEDGING </a:t>
            </a:r>
            <a:r>
              <a:rPr b="1" i="1" lang="en-US" sz="36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S</a:t>
            </a:r>
            <a:r>
              <a:rPr b="1" i="1" lang="en-US" sz="28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OURCES</a:t>
            </a:r>
            <a:br>
              <a:rPr sz="4000"/>
            </a:br>
            <a:r>
              <a:rPr b="1" i="1" lang="en-US" sz="4000" spc="-1" strike="noStrike" u="sng">
                <a:solidFill>
                  <a:srgbClr val="ffcc00"/>
                </a:solidFill>
                <a:uFillTx/>
                <a:latin typeface="Times New Roman"/>
              </a:rPr>
              <a:t>I</a:t>
            </a:r>
            <a:r>
              <a:rPr b="1" i="1" lang="en-US" sz="3600" spc="-1" strike="noStrike" u="sng">
                <a:solidFill>
                  <a:srgbClr val="ffcc00"/>
                </a:solidFill>
                <a:uFillTx/>
                <a:latin typeface="Times New Roman"/>
              </a:rPr>
              <a:t>NTERNET &amp; </a:t>
            </a:r>
            <a:r>
              <a:rPr b="1" i="1" lang="en-US" sz="4000" spc="-1" strike="noStrike" u="sng">
                <a:solidFill>
                  <a:srgbClr val="ffcc00"/>
                </a:solidFill>
                <a:uFillTx/>
                <a:latin typeface="Times New Roman"/>
              </a:rPr>
              <a:t>O</a:t>
            </a:r>
            <a:r>
              <a:rPr b="1" i="1" lang="en-US" sz="3600" spc="-1" strike="noStrike" u="sng">
                <a:solidFill>
                  <a:srgbClr val="ffcc00"/>
                </a:solidFill>
                <a:uFillTx/>
                <a:latin typeface="Times New Roman"/>
              </a:rPr>
              <a:t>THER </a:t>
            </a:r>
            <a:r>
              <a:rPr b="1" i="1" lang="en-US" sz="4000" spc="-1" strike="noStrike" u="sng">
                <a:solidFill>
                  <a:srgbClr val="ffcc00"/>
                </a:solidFill>
                <a:uFillTx/>
                <a:latin typeface="Times New Roman"/>
              </a:rPr>
              <a:t>E</a:t>
            </a:r>
            <a:r>
              <a:rPr b="1" i="1" lang="en-US" sz="3600" spc="-1" strike="noStrike" u="sng">
                <a:solidFill>
                  <a:srgbClr val="ffcc00"/>
                </a:solidFill>
                <a:uFillTx/>
                <a:latin typeface="Times New Roman"/>
              </a:rPr>
              <a:t>-</a:t>
            </a:r>
            <a:r>
              <a:rPr b="1" i="1" lang="en-US" sz="4000" spc="-1" strike="noStrike" u="sng">
                <a:solidFill>
                  <a:srgbClr val="ffcc00"/>
                </a:solidFill>
                <a:uFillTx/>
                <a:latin typeface="Times New Roman"/>
              </a:rPr>
              <a:t>S</a:t>
            </a:r>
            <a:r>
              <a:rPr b="1" i="1" lang="en-US" sz="3600" spc="-1" strike="noStrike" u="sng">
                <a:solidFill>
                  <a:srgbClr val="ffcc00"/>
                </a:solidFill>
                <a:uFillTx/>
                <a:latin typeface="Times New Roman"/>
              </a:rPr>
              <a:t>OURCES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686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5000"/>
              </a:lnSpc>
              <a:spcBef>
                <a:spcPts val="901"/>
              </a:spcBef>
              <a:buSzPct val="12339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Rounded MT Bold"/>
              </a:rPr>
              <a:t>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Basic information the same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75000"/>
              </a:lnSpc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Arial"/>
              </a:rPr>
              <a:t>Author, title, place, dat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SzPct val="11833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Rounded MT Bold"/>
              </a:rPr>
              <a:t>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Times New Roman"/>
              </a:rPr>
              <a:t>Unique features include.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Times New Roman"/>
              </a:rPr>
              <a:t>Uniform Resource Locator (URL)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Arial"/>
              </a:rPr>
              <a:t>Date accessed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901"/>
              </a:spcBef>
              <a:buSzPct val="12339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Times New Roman"/>
              </a:rPr>
              <a:t>Some info may not be available.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75000"/>
              </a:lnSpc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Rounded MT Bold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 Rounded MT Bold"/>
              </a:rPr>
              <a:t>Cite what you can fin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1676520"/>
            <a:ext cx="8534160" cy="4419360"/>
          </a:xfrm>
          <a:prstGeom prst="roundRect">
            <a:avLst>
              <a:gd name="adj" fmla="val 16667"/>
            </a:avLst>
          </a:prstGeom>
          <a:noFill/>
          <a:ln cap="sq" w="64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FEA39-145A-4007-80AF-B3E88586F4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TING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OURCES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ING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MLA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TYLE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UIDE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5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Bailey, Sue. “Critics: Stats on Shelters Are Misleading.” 5 Nov. 2002.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Arial"/>
              </a:rPr>
              <a:t>Canoe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	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Arial"/>
              </a:rPr>
              <a:t>CNEWS: News Ticker National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. 7 Nov. 2002 &lt;http://www. Cnews/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canoe.ca&gt;.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Beckwith, J.  "Glenn Gould." 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바탕"/>
              </a:rPr>
              <a:t>The New Grove Dictionary of Music and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	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바탕"/>
              </a:rPr>
              <a:t>Musicians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. Ed. Stanley  Sadie. Vol. 7. London: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MacMillan, 1989. 579.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Canadian Broadcasting Corporation.  "Down on the Farm: Crisis in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Agriculture."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바탕"/>
              </a:rPr>
              <a:t>CBC TVNews-In-Review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. Videocassette. CBC, Feb.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1999.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762120"/>
            <a:ext cx="9448920" cy="0"/>
          </a:xfrm>
          <a:prstGeom prst="line">
            <a:avLst/>
          </a:prstGeom>
          <a:ln cap="rnd" w="38160">
            <a:solidFill>
              <a:srgbClr val="ff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D2736-77BB-4157-AFE4-AFED181967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TING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OURCES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ING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MLA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TYLE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UIDE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586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3898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“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Conservationists Push to Save Polar Bears.” 5 Nov. 2002.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Arial"/>
              </a:rPr>
              <a:t>CBC News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	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Arial"/>
              </a:rPr>
              <a:t>Online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. 6 Nov. 2002 &lt;http://www.cbc.ca/stories/ 2002/11/05/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polar_bears&gt;.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ts val="3898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Crook, Connie Brummel. "Writing historical fiction."  E-mail to the author.   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21 June 2002.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 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ts val="3898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Davison, Peter. "Ecotourism Can Help Preserve The Rainforests."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Arial"/>
              </a:rPr>
              <a:t>Global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	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Arial"/>
              </a:rPr>
              <a:t>Warming: Opposing Viewpoints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.  Ed. David Bender.  San Diego: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Greenhaven, 1999.  171-78.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762120"/>
            <a:ext cx="9448920" cy="0"/>
          </a:xfrm>
          <a:prstGeom prst="line">
            <a:avLst/>
          </a:prstGeom>
          <a:ln cap="rnd" w="76320">
            <a:solidFill>
              <a:srgbClr val="ff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D1A69-C61B-4DA6-834B-39B5C07E63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TING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OURCES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ING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MLA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TYLE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UIDE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5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Doob, Anthony.  "Youth Justice Publications into Research in Canada: An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Assessment."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Arial"/>
              </a:rPr>
              <a:t>Canadian Journal of Criminology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. Apr. 1999: 217+.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EBSCOhost 3.1, Peel District School Board, Mississauga, ON. 20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July 1999 &lt;http://epnet.com/ ehost/&gt;.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Frizzell, Alan, and Jon H. Pammett, ed.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Arial"/>
              </a:rPr>
              <a:t>Shades of Green: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	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Arial"/>
              </a:rPr>
              <a:t>Environmental Attitudes in Canada and Around the World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. Richmond: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Carleton UP, 1997. 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Govier, Katherine.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“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A Medley of Canadian poets.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”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바탕"/>
              </a:rPr>
              <a:t>Time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 5 July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1999,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Canadian ed.: 50.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762120"/>
            <a:ext cx="9448920" cy="0"/>
          </a:xfrm>
          <a:prstGeom prst="line">
            <a:avLst/>
          </a:prstGeom>
          <a:ln cap="rnd" w="38160">
            <a:solidFill>
              <a:srgbClr val="ff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DE7EF-7091-4BF8-82BC-50D6AC6B77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TING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OURCES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ING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MLA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TYLE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UIDE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-360" y="761760"/>
            <a:ext cx="883908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"Hardware:PlayStation 2."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바탕"/>
              </a:rPr>
              <a:t>PlayStation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. 7 Nov. 2002. &lt;http://us.playstation.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com/hardware/PS2/SCPH-30001.asp&gt;. 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4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Haworth-Attard, Barbara.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Arial"/>
              </a:rPr>
              <a:t>Irish Chain.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 Toronto: Harper Collins,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2002.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4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Hughes, Monica. Home page. 7 Nov. 2002 http://www.ecn.ab.ca/ ughes/&gt;. 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4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"Jane Austen." 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바탕"/>
              </a:rPr>
              <a:t>Great Writers of the English Language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.  Vol. 8. Toronto: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Marshall Cavendish, 1989.  5-28.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4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"Julie Payette."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바탕"/>
              </a:rPr>
              <a:t>Canadian Geographic Explorer: An Interactive Journey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	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바탕"/>
              </a:rPr>
              <a:t>Around Canada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. CD-ROM. IQ Media, 1997.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4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McClelland, Susan.  "Users Beware: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‘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Quack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’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 Sites Lurk Among Many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Good Internet Health Links." 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바탕"/>
              </a:rPr>
              <a:t>Maclean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Times New Roman"/>
              </a:rPr>
              <a:t>’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바탕"/>
              </a:rPr>
              <a:t>s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 21 June 1999:  58.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762120"/>
            <a:ext cx="9448920" cy="0"/>
          </a:xfrm>
          <a:prstGeom prst="line">
            <a:avLst/>
          </a:prstGeom>
          <a:ln cap="rnd" w="38160">
            <a:solidFill>
              <a:srgbClr val="ff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8DF5E-14E3-4213-AD62-8C1579ECFA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TING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OURCES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ING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MLA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TYLE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UIDE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52488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33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바탕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Nye, Bill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. "The Suns: The Planets."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Times New Roman"/>
              </a:rPr>
              <a:t>Bill Nye: The Science Guy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.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Videocassette.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Magic Lantern. 2000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바탕"/>
              </a:rPr>
              <a:t>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ts val="33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Shelley, Mary.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Arial"/>
              </a:rPr>
              <a:t>Frankenstein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. 1818. Toronto: Penguin, 1994.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Skreslet, Laurie and Elizabeth McLeod. 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Arial"/>
              </a:rPr>
              <a:t>To the Top of Everest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. Toronto: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Kids Can, 2001. 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Sly, P.G. "Great Lakes."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바탕"/>
              </a:rPr>
              <a:t>The 1998 Canadian &amp; World Encyclopedia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. CD-ROM.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Toronto: McLelland &amp; Stewart. 1998.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Stewart, Garrett.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“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Lewis, C.S.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”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바탕"/>
              </a:rPr>
              <a:t>World Book Online Americas Edition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. 2002.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World Book. 7 Nov. 2002 &lt;http://www.worldbookonline.com/wbol/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wbAuth/sp./wbarticle.jsp&gt;.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  <a:ea typeface="바탕"/>
              </a:rPr>
              <a:t> 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762120"/>
            <a:ext cx="9448920" cy="0"/>
          </a:xfrm>
          <a:prstGeom prst="line">
            <a:avLst/>
          </a:prstGeom>
          <a:ln cap="rnd" w="76320">
            <a:solidFill>
              <a:srgbClr val="ff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1T21:07:12Z</dcterms:created>
  <dc:creator>Sya VanGeest</dc:creator>
  <dc:description/>
  <dc:language>en-US</dc:language>
  <cp:lastModifiedBy>KIGCIRC</cp:lastModifiedBy>
  <dcterms:modified xsi:type="dcterms:W3CDTF">2003-11-13T12:43:39Z</dcterms:modified>
  <cp:revision>42</cp:revision>
  <dc:subject/>
  <dc:title>Why a Research Model?</dc:title>
</cp:coreProperties>
</file>