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C7B-0A15-482C-AD8E-96E30B74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C3A-77D2-41DC-8256-5DA32A23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5AB8-1307-459E-A2B9-1E623022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B649-C324-430E-8557-6AFE1524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20FE-84B2-4C8C-80EC-E2D024A0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C98E-854B-4C66-8EA4-52B06944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954A-AEA8-4D67-9786-B2BA16AE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80E1-6F13-436E-AA6A-7F342D18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F6B3-5481-4496-BE82-C457D75A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769E-BC9B-4CFB-9AE9-ACCEF1E7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2451-590A-4F9A-9A14-8E56FF2F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6309-2BF1-46F9-B1DD-B25E8E25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EEF7-67FE-420C-95BC-3FF1AD98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3A04-DAEF-410A-99B9-514352A7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4C12-779A-4034-8BFA-F26FCE22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0916-1EAC-4051-A094-DD24AD5C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1779-7429-44C9-9DA7-0FE6E82B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3C4D-F28D-4D3C-8B30-6FCAEB03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5B3-CFC6-4FE2-AF56-7909FC94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2145-7DF7-4552-B8D1-3506B5C3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AF5-134B-4201-8C07-3613DD64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9942-D47F-42CA-BC5C-859E2D09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1A51-B48D-4ADB-A654-EDCCBDAB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F48D-DA7C-44C6-82BB-39F28E02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1889-A9C7-487A-B57B-308AD8760FA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5008-144F-4E61-BCA2-A4E90182190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EFF1-B7BE-4912-9FA7-9DE68F3289C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and </a:t>
            </a: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Maintain 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Reference List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Do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not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call it a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Bibliograph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Academic honesty demands i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Not to document is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plagiarism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Gives access to your sources.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Reader verify and follow-up easi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2339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Use quality sources; quote wisely.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Adds value and author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371600"/>
            <a:ext cx="8534160" cy="4800600"/>
          </a:xfrm>
          <a:prstGeom prst="roundRect">
            <a:avLst>
              <a:gd name="adj" fmla="val 16667"/>
            </a:avLst>
          </a:prstGeom>
          <a:noFill/>
          <a:ln cap="sq"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8F72-2161-4F48-96EB-74E998796EF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&amp;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br>
              <a:rPr sz="4000"/>
            </a:b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F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ORMATTING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Use 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Style Guide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 Be consisten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5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MLA and APA are two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authorities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Alphabetize and double-space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Indent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second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line. Do not numb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Integrate all sources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Make </a:t>
            </a:r>
            <a:r>
              <a:rPr b="1" lang="en-US" sz="4000" spc="-1" strike="noStrike">
                <a:solidFill>
                  <a:srgbClr val="ffcc00"/>
                </a:solidFill>
                <a:latin typeface="Arial Rounded MT Bold"/>
              </a:rPr>
              <a:t>one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alphabetized li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676520"/>
            <a:ext cx="8534160" cy="4495680"/>
          </a:xfrm>
          <a:prstGeom prst="roundRect">
            <a:avLst>
              <a:gd name="adj" fmla="val 16667"/>
            </a:avLst>
          </a:prstGeom>
          <a:noFill/>
          <a:ln cap="sq"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706D-0CA7-4572-B253-E66CA926393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&amp;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br>
              <a:rPr sz="4000"/>
            </a:b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I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NTERNET &amp; 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O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THER 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E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-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S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OURC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Basic information the sa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Author, title, place, d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Unique features includ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Uniform Resource Locator (URL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Date accesse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Some info may not be availabl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Cite what you can fi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676520"/>
            <a:ext cx="8534160" cy="4419360"/>
          </a:xfrm>
          <a:prstGeom prst="roundRect">
            <a:avLst>
              <a:gd name="adj" fmla="val 16667"/>
            </a:avLst>
          </a:prstGeom>
          <a:noFill/>
          <a:ln cap="sq"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ACC9-F74D-4EDE-AF77-E5FC61413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Bailey, Sue. “Critics: Stats on Shelters Are Misleading.” 5 Nov. 2002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anoe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NEWS: News Ticker National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7 Nov. 2002 &lt;http://www. Cnews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anoe.ca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Beckwith, J.  "Glenn Gould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he New Grove Dictionary of Music and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Musician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Ed. Stanley  Sadie. Vol. 7. London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acMillan, 1989. 579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anadian Broadcasting Corporation.  "Down on the Farm: Crisis in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Agriculture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CBC TVNews-In-Review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Videocassette. CBC, Feb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1999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D294-0944-47AC-9497-7A020635A4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onservationists Push to Save Polar Bears.” 5 Nov. 2002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BC News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Onlin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6 Nov. 2002 &lt;http://www.cbc.ca/stories/ 2002/11/05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polar_bears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rook, Connie Brummel. "Writing historical fiction."  E-mail to the author.  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21 June 2002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Davison, Peter. "Ecotourism Can Help Preserve The Rainforest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Global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Warming: Opposing Viewpoint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 Ed. David Bender.  San Dieg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Greenhaven, 1999.  171-7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7632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07CE-2DC8-4FDB-97BC-924FB15DD6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Doob, Anthony.  "Youth Justice Publications into Research in Canada: An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Assessment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anadian Journal of Criminology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Apr. 1999: 217+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EBSCOhost 3.1, Peel District School Board, Mississauga, ON. 20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July 1999 &lt;http://epnet.com/ ehost/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Frizzell, Alan, and Jon H. Pammett, ed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Shades of Green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Environmental Attitudes in Canada and Around the World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Richmond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arleton UP, 1997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Govier, Katherine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A Medley of Canadian poets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”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im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5 Jul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1999,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anadian ed.: 50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E020-8511-4A66-B444-71D0CCC41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Hardware:PlayStation 2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PlayStatio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7 Nov. 2002. &lt;http://us.playstation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om/hardware/PS2/SCPH-30001.asp&gt;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Haworth-Attard, Barbara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Irish Chain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Toronto: Harper Collins,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2002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Hughes, Monica. Home page. 7 Nov. 2002 http://www.ecn.ab.ca/ ughes/&gt;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Jane Austen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Great Writers of the English Languag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 Vol. 8. Toront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arshall Cavendish, 1989.  5-2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Julie Payette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Canadian Geographic Explorer: An Interactive Journe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Around Canada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CD-ROM. IQ Media, 1997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cClelland, Susan.  "Users Beware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‘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Quack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’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Sites Lurk Among Man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Good Internet Health Links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Maclean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’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21 June 1999:  5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56F0-D6CA-4CC1-8A69-F09CC25BC1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524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3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Nye, Bill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 "The Suns: The Planet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Bill Nye: The Science Guy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Videocassette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Magic Lantern. 2000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바탕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3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Shelley, Mary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Frankenstei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1818. Toronto: Penguin, 1994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Skreslet, Laurie and Elizabeth McLeod.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To the Top of Everest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Toront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Kids Can, 2001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Sly, P.G. "Great Lake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he 1998 Canadian &amp; World Encyclopedia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CD-ROM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Toronto: McLelland &amp; Stewart. 199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Stewart, Garrett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Lewis, C.S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”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World Book Online Americas Editio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2002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World Book. 7 Nov. 2002 &lt;http://www.worldbookonline.com/wbol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wbAuth/sp./wbarticle.jsp&gt;.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  <a:ea typeface="바탕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7632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21:07:12Z</dcterms:created>
  <dc:creator>Sya VanGeest</dc:creator>
  <dc:description/>
  <dc:language>en-US</dc:language>
  <cp:lastModifiedBy>KIGCIRC</cp:lastModifiedBy>
  <dcterms:modified xsi:type="dcterms:W3CDTF">2003-11-13T12:43:39Z</dcterms:modified>
  <cp:revision>42</cp:revision>
  <dc:subject/>
  <dc:title>Why a Research Model?</dc:title>
</cp:coreProperties>
</file>