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250-EAFD-48C9-8854-0A0FBCBB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635-6FDE-4CF0-82B0-477D3AF6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24A-55A5-4273-B5DC-ED567719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5EC-DE8A-4CE2-BAE3-F42E8C41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C141-C2C3-47CF-B9AC-A83D0C59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76D6-AE9D-4E92-9F75-BB28732F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5F1D-F258-456A-AE01-87BF4345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679F-F39D-4AE7-80BB-0776461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8966-783B-4A5A-933C-4C9024BC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B5BE-86FF-4AD8-B8A9-EE90F015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5971-B2EC-4958-8F44-449E92AB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4CD-94D3-4B79-A863-1DAA01D7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B27A-799B-46D6-915B-ECBC4A53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1536-BEC7-4ABB-929D-248E32A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D6A-3FB0-4026-9234-FEBEA6B2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7C6C-FD93-4294-8D93-44313C7D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533A-F1D9-47A2-B0B5-2367FE10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05B-67B1-4F86-895E-134F2F4F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AA4-C0AD-42FC-A610-F3799F0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E09-39BA-4AA6-A244-5CD9C461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B25-23AB-41FC-B6DC-BA871A6F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0A2-CC79-4087-B8EC-D775FF7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158-3C05-4638-AF98-8E877EC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0EE-E031-4203-B0BC-83D9F12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4812-3B05-4F19-B972-385C75E450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DEEC-D6F2-435D-A1AF-5BE6C55235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764A-4210-411D-BCCE-FF6F6E5E12B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and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Maintain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Reference List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no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call it a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Bibliograph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cademic honesty demands 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ot to document is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agiarism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Gives access to your sources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Reader verify and follow-up eas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quality sources; quote wisely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dds value and autho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534160" cy="480060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B6E2-FF9D-4470-8ECE-9627F5AD23F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RMATTING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Style Guid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Be consist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5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MLA and APA are tw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uthoritie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lphabetize and double-spac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ent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eco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line. Do not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Integrate all source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Make </a:t>
            </a:r>
            <a:r>
              <a:rPr b="1" lang="en-US" sz="4000" spc="-1" strike="noStrike">
                <a:solidFill>
                  <a:srgbClr val="ffcc00"/>
                </a:solidFill>
                <a:latin typeface="Arial Rounded MT Bold"/>
              </a:rPr>
              <a:t>one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lphabetized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34160" cy="449568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81DC-58D6-4070-89E7-797926F8733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I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NTERNET &amp;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O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THER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E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-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S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URC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asic information the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Author, title, place, d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Unique features includ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Uniform Resource Locator (UR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ate access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ome info may not be availabl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Cite what you can fi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676520"/>
            <a:ext cx="8534160" cy="441936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0D5B-CF5F-48FC-8275-33ACB01B3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Bailey, Sue. “Critics: Stats on Shelters Are Misleading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oe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NEWS: News Ticker Nationa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7 Nov. 2002 &lt;http://www. Cnews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noe.ca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Beckwith, J.  "Glenn Gould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New Grove Dictionary of Music and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usician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Ed. Stanley  Sadie. Vol. 7. Londo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cMillan, 1989. 57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Broadcasting Corporation.  "Down on the Farm: Crisis i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gricultur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BC TVNews-In-Review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Videocassette. CBC, Feb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4F80-4713-4BC9-8ABD-A2470DAE7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onservationists Push to Save Polar Bears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BC News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Onlin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6 Nov. 2002 &lt;http://www.cbc.ca/stories/ 2002/11/05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polar_bears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ok, Connie Brummel. "Writing historical fiction."  E-mail to the author.  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1 June 2002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avison, Peter. "Ecotourism Can Help Preserve The Rainfores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Global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Warming: Opposing Viewpoint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 Ed. David Bender.  San Dieg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Greenhaven, 1999.  171-7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06B7-452B-46EF-9B2F-0F8D3C40A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oob, Anthony.  "Youth Justice Publications into Research in Canada: A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Assessment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adian Journal of Criminolog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Apr. 1999: 217+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EBSCOhost 3.1, Peel District School Board, Mississauga, ON. 20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July 1999 &lt;http://epnet.com/ ehost/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Frizzell, Alan, and Jon H. Pammett, ed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Shades of Gree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Environmental Attitudes in Canada and Around the World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Richmond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rleton UP, 1997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vier, Katherine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 Medley of Canadian poet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im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5 Jul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ed.: 50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4310-A475-4711-9EEF-294EEF8EA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Hardware:PlayStation 2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PlaySta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7 Nov. 2002. &lt;http://us.playstation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om/hardware/PS2/SCPH-30001.asp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Haworth-Attard, Barbara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Irish Chain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Toronto: Harper Collins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2002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Hughes, Monica. Home page. 7 Nov. 2002 http://www.ecn.ab.ca/ ughes/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ane Austen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Great Writers of the English Languag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 Vol. 8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rshall Cavendish, 1989.  5-2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ulie Payett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anadian Geographic Explorer: An Interactive Journe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Around Canad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IQ Media, 1997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cClelland, Susan.  "Users Beware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‘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Quack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Sites Lurk Among Man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od Internet Health Links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aclean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’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21 June 1999:  5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1A9E-A2CC-4F10-90BE-74EE5E670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3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Nye, Bil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"The Suns: The Plane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Bill Nye: The Science Gu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Videocassette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gic Lantern. 2000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바탕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3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helley, Mary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Frankenstei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1818. Toronto: Penguin, 1994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kreslet, Laurie and Elizabeth McLeod.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To the Top of Everest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Kids Can, 2001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ly, P.G. "Great Lake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1998 Canadian &amp; World Encyclopedi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Toronto: McLelland &amp; Stewart. 199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tewart, Garrett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Lewis, C.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World Book Online Americas Edi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2002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orld Book. 7 Nov. 2002 &lt;http://www.worldbookonline.com/wbol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bAuth/sp./wbarticle.jsp&gt;.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21:07:12Z</dcterms:created>
  <dc:creator>Sya VanGeest</dc:creator>
  <dc:description/>
  <dc:language>en-US</dc:language>
  <cp:lastModifiedBy>KIGCIRC</cp:lastModifiedBy>
  <dcterms:modified xsi:type="dcterms:W3CDTF">2003-11-13T12:43:39Z</dcterms:modified>
  <cp:revision>42</cp:revision>
  <dc:subject/>
  <dc:title>Why a Research Model?</dc:title>
</cp:coreProperties>
</file>