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30EF-2CE5-4E69-B365-7109D9DB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8F4-0961-454E-9E25-8B5D1833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FBB-20DC-4E52-B4B9-A2DF79F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99E-6B16-4DBB-995B-E426FB2E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A457-D08F-456A-8500-DCEF680E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C519-A1E7-43FD-B79D-73C19AF2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E25C-6D47-4A5E-9771-13EB186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BC26-6188-4F1B-82B4-1501BA4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EB98-BCA1-4C93-BBDC-95B9FE61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36B1-DFDE-490E-81EA-7DBDB7F0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4395-AFD1-4B2D-93CC-73907C6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472-4C44-4B29-A027-245547CD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9B1-07B2-476D-9F38-8C9136F3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9E6C-FFCD-47AE-98E9-EDD37F6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81E1-3A3E-4ECD-8334-A864C4B4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0FFA-1803-458C-8557-D14B4D94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9D5-A92F-42DD-A955-12FE8BB5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A0A-1977-4D22-8F26-4429059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277-B71D-458B-966B-3DB3900E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095-F1A5-41FE-AF4C-C7D70EB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25C-79AE-4DD8-8778-D9CAFFBC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C6E-0A06-47B2-839E-2D838A48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758-CA2A-4B16-820A-3578920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80F-FC82-4018-92E8-374266F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0F4-A25C-4CC3-91A9-F6A72E0C654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D32D-B685-4BD7-848C-D9988549FA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9A3F-5DDA-49DA-AB5F-BB091BF14DE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and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44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Maintain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Reference List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no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call it a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Bibliograph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cademic honesty demands 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Not to document is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agiarism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Gives access to your sources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Reader verify and follow-up easi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SzPct val="12339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quality sources; quote wisely.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dds value and autho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534160" cy="480060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B11-5640-47BE-8E90-D6C771A3748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F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RMATTING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Use a </a:t>
            </a:r>
            <a:r>
              <a:rPr b="1" i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Style Guide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 Be consisten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5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MLA and APA are two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authorities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Alphabetize and double-space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Indent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eco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line. Do not numb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Integrate all sources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6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Make </a:t>
            </a:r>
            <a:r>
              <a:rPr b="1" lang="en-US" sz="4000" spc="-1" strike="noStrike">
                <a:solidFill>
                  <a:srgbClr val="ffcc00"/>
                </a:solidFill>
                <a:latin typeface="Arial Rounded MT Bold"/>
              </a:rPr>
              <a:t>one</a:t>
            </a: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alphabetized li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34160" cy="4495680"/>
          </a:xfrm>
          <a:prstGeom prst="roundRect">
            <a:avLst>
              <a:gd name="adj" fmla="val 16667"/>
            </a:avLst>
          </a:prstGeom>
          <a:noFill/>
          <a:ln cap="sq"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9282-83D4-4A5B-9C76-F77C24FEF1C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D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CUMENTING &amp;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A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CKNOWLEDGING </a:t>
            </a:r>
            <a:r>
              <a:rPr b="1" i="1" lang="en-US" sz="36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S</a:t>
            </a:r>
            <a:r>
              <a:rPr b="1" i="1" lang="en-US" sz="2800" spc="-1" strike="noStrike">
                <a:solidFill>
                  <a:srgbClr val="ffcc00"/>
                </a:solidFill>
                <a:latin typeface="Bookman Old Style"/>
                <a:ea typeface="Times New Roman"/>
              </a:rPr>
              <a:t>OURCES</a:t>
            </a:r>
            <a:br>
              <a:rPr sz="4000"/>
            </a:b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I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NTERNET &amp;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O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THER 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E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-</a:t>
            </a:r>
            <a:r>
              <a:rPr b="1" i="1" lang="en-US" sz="4000" spc="-1" strike="noStrike" u="sng">
                <a:solidFill>
                  <a:srgbClr val="ffcc00"/>
                </a:solidFill>
                <a:uFillTx/>
                <a:latin typeface="Times New Roman"/>
              </a:rPr>
              <a:t>S</a:t>
            </a: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OURC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901"/>
              </a:spcBef>
              <a:buSzPct val="12339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Arial"/>
              </a:rPr>
              <a:t>Basic information the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Author, title, place, d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183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Unique features includ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Uniform Resource Locator (URL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Arial"/>
              </a:rPr>
              <a:t>Date accesse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buSzPct val="1233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Some info may not be availabl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75000"/>
              </a:lnSpc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 Rounded MT Bold"/>
              </a:rPr>
              <a:t>Cite what you can fi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676520"/>
            <a:ext cx="8534160" cy="4419360"/>
          </a:xfrm>
          <a:prstGeom prst="roundRect">
            <a:avLst>
              <a:gd name="adj" fmla="val 16667"/>
            </a:avLst>
          </a:prstGeom>
          <a:noFill/>
          <a:ln cap="sq" w="64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F1B-9BCE-4BBB-8B2C-744F5B79F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Bailey, Sue. “Critics: Stats on Shelters Are Misleading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oe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NEWS: News Ticker Nationa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7 Nov. 2002 &lt;http://www. Cnews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noe.ca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Beckwith, J.  "Glenn Gould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New Grove Dictionary of Music and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usician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Ed. Stanley  Sadie. Vol. 7. Londo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cMillan, 1989. 57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Broadcasting Corporation.  "Down on the Farm: Crisis i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gricultur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BC TVNews-In-Review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Videocassette. CBC, Feb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AE6-3668-4F19-B811-39DEFBBDA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onservationists Push to Save Polar Bears.” 5 Nov. 2002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BC News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Onlin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6 Nov. 2002 &lt;http://www.cbc.ca/stories/ 2002/11/05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polar_bears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rook, Connie Brummel. "Writing historical fiction."  E-mail to the author.  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1 June 2002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898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avison, Peter. "Ecotourism Can Help Preserve The Rainfores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Global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Warming: Opposing Viewpoint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 Ed. David Bender.  San Dieg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Greenhaven, 1999.  171-7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C7E0-5E49-4E59-9D99-3C4CC6B03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Doob, Anthony.  "Youth Justice Publications into Research in Canada: An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Assessment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Canadian Journal of Criminolog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Apr. 1999: 217+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EBSCOhost 3.1, Peel District School Board, Mississauga, ON. 20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July 1999 &lt;http://epnet.com/ ehost/&gt;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Frizzell, Alan, and Jon H. Pammett, ed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Shades of Green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Environmental Attitudes in Canada and Around the World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Richmond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Carleton UP, 1997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vier, Katherine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A Medley of Canadian poet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im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5 Jul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1999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anadian ed.: 50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4462-8B01-47CF-84FF-6C3AD8A5D5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Hardware:PlayStation 2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PlaySta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7 Nov. 2002. &lt;http://us.playstation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com/hardware/PS2/SCPH-30001.asp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Haworth-Attard, Barbara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Irish Chain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Toronto: Harper Collins,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2002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Hughes, Monica. Home page. 7 Nov. 2002 http://www.ecn.ab.ca/ ughes/&gt;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ane Austen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Great Writers of the English Language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 Vol. 8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arshall Cavendish, 1989.  5-2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"Julie Payette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Canadian Geographic Explorer: An Interactive Journe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Around Canad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IQ Media, 1997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4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McClelland, Susan.  "Users Beware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‘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Quack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’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Sites Lurk Among Many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Good Internet Health Links."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Maclean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’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s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21 June 1999:  5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C72-A26C-4EB4-9D3A-BE8EA3CD7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IT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OURCE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ING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LA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TYL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UIDE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524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3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Nye, Bill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"The Suns: The Planet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Bill Nye: The Science Guy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Videocassette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Magic Lantern. 2000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바탕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ts val="33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helley, Mary.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Frankenstei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1818. Toronto: Penguin, 1994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Skreslet, Laurie and Elizabeth McLeod. 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Arial"/>
              </a:rPr>
              <a:t>To the Top of Everest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. Toronto: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Arial"/>
              </a:rPr>
              <a:t>Kids Can, 2001.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ly, P.G. "Great Lakes."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The 1998 Canadian &amp; World Encyclopedia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CD-ROM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Toronto: McLelland &amp; Stewart. 1998.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Stewart, Garrett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Lewis, C.S.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 </a:t>
            </a:r>
            <a:r>
              <a:rPr b="0" lang="en-US" sz="2500" spc="-1" strike="noStrike" u="sng">
                <a:solidFill>
                  <a:srgbClr val="ffffff"/>
                </a:solidFill>
                <a:uFillTx/>
                <a:latin typeface="Arial Narrow"/>
                <a:ea typeface="바탕"/>
              </a:rPr>
              <a:t>World Book Online Americas Edition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. 2002.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orld Book. 7 Nov. 2002 &lt;http://www.worldbookonline.com/wbol/ 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 Narrow"/>
                <a:ea typeface="바탕"/>
              </a:rPr>
              <a:t>wbAuth/sp./wbarticle.jsp&gt;.</a:t>
            </a:r>
            <a:r>
              <a:rPr b="0" lang="en-US" sz="2500" spc="-1" strike="noStrike">
                <a:solidFill>
                  <a:srgbClr val="000000"/>
                </a:solidFill>
                <a:latin typeface="Arial Narrow"/>
                <a:ea typeface="바탕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762120"/>
            <a:ext cx="9448920" cy="0"/>
          </a:xfrm>
          <a:prstGeom prst="line">
            <a:avLst/>
          </a:prstGeom>
          <a:ln cap="rnd" w="7632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21:07:12Z</dcterms:created>
  <dc:creator>Sya VanGeest</dc:creator>
  <dc:description/>
  <dc:language>en-US</dc:language>
  <cp:lastModifiedBy>KIGCIRC</cp:lastModifiedBy>
  <dcterms:modified xsi:type="dcterms:W3CDTF">2003-11-13T12:43:39Z</dcterms:modified>
  <cp:revision>42</cp:revision>
  <dc:subject/>
  <dc:title>Why a Research Model?</dc:title>
</cp:coreProperties>
</file>